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43B-2B75-4477-9DC9-843149BF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3C3-0729-45D9-BAAA-B55043F1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397-1E01-4FF1-87F0-68F5981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AEC-BA99-48C4-82C3-9B1FD747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84EA-7BAC-4837-A0DA-40DC6C79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C73F-FBB4-40F4-A07E-9497592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29C2-F64C-4BEF-A8A6-FEFDE350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CF52-58B0-4742-AA80-912DEE0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809A-E29D-4F63-9769-84FFE2C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DB0B-9419-419D-BBE6-29F41949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12E-E2C2-4BB3-B539-BDD56CF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EB5-5529-4E7E-AB5B-191F584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0260-7431-4C4F-8210-6D1273D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F228-E2E9-45C6-AC24-C2A907E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01A9-5AE5-444E-A6A1-00AE241A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0331-CEFD-4ABB-A045-EC3CC0D5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1A1-7E36-4185-BBB4-56C191F3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E19F-F200-4F06-8023-A320CBF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A787-CB2D-4821-9BA1-73F8B07A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E0CDA-4DB8-4190-8C60-8F121D40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65156-AFAF-4099-9E39-973A75E9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2852-C212-40B0-8867-1881D96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658-F79E-4B89-A8F6-3D2DB2F8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9001-8F83-4F50-8C25-D5E6DD0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9168-5288-4CD2-987D-197F51C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B453-729D-4E35-8AB5-838E10D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5BD8-7D92-49F3-87B7-4699DC7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9244-F2C9-4E28-A5DA-AB37C1CD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72F0-8E75-4519-81AB-54D3FC93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E051-8A2E-414B-9205-310F9E5B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6F0C-A84B-4992-B11B-CDA616F9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F861-C4F9-4A1C-833F-B4484C8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164E-8405-49C7-85B2-6EDC3554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C17-A131-4B7C-BE53-8743D7C8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67AA-B8ED-43C1-BB5D-D761393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B896-C292-4D84-9C1E-18F02E56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F746-C5D4-49EB-A0A6-BD74D2E4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4C3D-DC3B-4891-B10C-FC1D739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4DD8-78D9-409A-92C2-D3A0CD2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1458-69EB-4D08-BE98-43F3BE0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8F07-B995-4F57-BDE4-7F13CB3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D6B3E-B31B-4428-8668-F5AACCD5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AFC2-3B65-4300-B937-C9E784E8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E910B-3DBD-4CFD-8ECF-1C27B7D7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C4F-A434-4755-A983-1F23C57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6AC1-836C-4E31-A73E-24988BB6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CD6C-FA22-4710-8423-D042D405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E6FC-9EE7-46A8-B795-3EA6B0C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3301-18BD-4052-A0E4-6004D0B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8663-5A85-487D-950D-0A3D045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066A-5644-47D9-81C5-745CAD3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1B3B-41A4-406E-979C-05A2452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6A5C5-375A-40ED-A19D-51687E5A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C392-AF94-4052-BB36-47F5785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A4051-B2A0-43D4-93CC-905F5B50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ECF-E1CC-45ED-8A75-A069AE3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612F-EF5C-4EC1-896E-8B079F92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881-DA3F-49EF-9EE1-568AB5A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07E-4A35-4D40-B860-A698672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195-ECFF-48AB-999A-919C44B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79D-97F8-4D8D-929E-580EA3563F1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472-4482-4B34-8BD0-CD4FAED3CB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BC3-75E0-4842-874D-B836187123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76DB-672B-40AD-9266-D6BA203B65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5D1-5048-428F-BC61-1A28825346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14680" y="1214280"/>
            <a:ext cx="55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Простейшие 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642960" y="304920"/>
            <a:ext cx="664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8d3e"/>
                </a:solidFill>
                <a:latin typeface="Times New Roman"/>
              </a:rPr>
              <a:t>Решите неравенство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357200" y="928800"/>
                <a:ext cx="282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506600" y="2286000"/>
                <a:ext cx="2730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282600" y="3500280"/>
                <a:ext cx="8432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1428840" y="4071960"/>
                <a:ext cx="2181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5372280" y="5257800"/>
                <a:ext cx="3554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Прямоугольник 9"/>
          <p:cNvSpPr/>
          <p:nvPr/>
        </p:nvSpPr>
        <p:spPr>
          <a:xfrm>
            <a:off x="3356280" y="55008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3"/>
          <p:cNvSpPr/>
          <p:nvPr/>
        </p:nvSpPr>
        <p:spPr>
          <a:xfrm>
            <a:off x="2653200" y="28584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785880" y="857160"/>
                <a:ext cx="26240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560" y="2500200"/>
                <a:ext cx="83804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убыв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357200" y="3857760"/>
                <a:ext cx="1047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4929120" y="4857840"/>
                <a:ext cx="20718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угольник 8"/>
          <p:cNvSpPr/>
          <p:nvPr/>
        </p:nvSpPr>
        <p:spPr>
          <a:xfrm>
            <a:off x="2998800" y="514368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23232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143000" y="990720"/>
                <a:ext cx="167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000080" y="2143080"/>
                <a:ext cx="1873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928800" y="2714760"/>
                <a:ext cx="7238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снование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1143000" y="3286080"/>
                <a:ext cx="1689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143000" y="3857760"/>
                <a:ext cx="1701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857840" y="4714920"/>
                <a:ext cx="234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Прямоугольник 9"/>
          <p:cNvSpPr/>
          <p:nvPr/>
        </p:nvSpPr>
        <p:spPr>
          <a:xfrm>
            <a:off x="2856240" y="500076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1"/>
          <p:cNvSpPr/>
          <p:nvPr/>
        </p:nvSpPr>
        <p:spPr>
          <a:xfrm>
            <a:off x="785880" y="49824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0"/>
              <p:cNvSpPr txBox="1"/>
              <p:nvPr/>
            </p:nvSpPr>
            <p:spPr>
              <a:xfrm>
                <a:off x="1571760" y="285840"/>
                <a:ext cx="6429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Rectangle 32"/>
          <p:cNvSpPr/>
          <p:nvPr/>
        </p:nvSpPr>
        <p:spPr>
          <a:xfrm>
            <a:off x="0" y="38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&gt;2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3"/>
              <p:cNvSpPr txBox="1"/>
              <p:nvPr/>
            </p:nvSpPr>
            <p:spPr>
              <a:xfrm>
                <a:off x="3429000" y="428760"/>
                <a:ext cx="1000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Прямоугольник 36"/>
          <p:cNvSpPr/>
          <p:nvPr/>
        </p:nvSpPr>
        <p:spPr>
          <a:xfrm>
            <a:off x="4506120" y="4287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7"/>
          <p:cNvSpPr/>
          <p:nvPr/>
        </p:nvSpPr>
        <p:spPr>
          <a:xfrm>
            <a:off x="932040" y="1357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5"/>
              <p:cNvSpPr txBox="1"/>
              <p:nvPr/>
            </p:nvSpPr>
            <p:spPr>
              <a:xfrm>
                <a:off x="1643040" y="1071720"/>
                <a:ext cx="170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7"/>
              <p:cNvSpPr txBox="1"/>
              <p:nvPr/>
            </p:nvSpPr>
            <p:spPr>
              <a:xfrm>
                <a:off x="3429000" y="1285920"/>
                <a:ext cx="3298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Прямоугольник 42"/>
          <p:cNvSpPr/>
          <p:nvPr/>
        </p:nvSpPr>
        <p:spPr>
          <a:xfrm>
            <a:off x="932400" y="2357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5"/>
          <p:cNvSpPr/>
          <p:nvPr/>
        </p:nvSpPr>
        <p:spPr>
          <a:xfrm>
            <a:off x="2720160" y="23572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1500120" y="23295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0,2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2"/>
              <p:cNvSpPr txBox="1"/>
              <p:nvPr/>
            </p:nvSpPr>
            <p:spPr>
              <a:xfrm>
                <a:off x="3500280" y="242892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6"/>
          <p:cNvSpPr/>
          <p:nvPr/>
        </p:nvSpPr>
        <p:spPr>
          <a:xfrm>
            <a:off x="4929120" y="23594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2"/>
          <p:cNvSpPr/>
          <p:nvPr/>
        </p:nvSpPr>
        <p:spPr>
          <a:xfrm>
            <a:off x="1003680" y="31431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7"/>
              <p:cNvSpPr txBox="1"/>
              <p:nvPr/>
            </p:nvSpPr>
            <p:spPr>
              <a:xfrm>
                <a:off x="1643040" y="3000240"/>
                <a:ext cx="17431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9"/>
              <p:cNvSpPr txBox="1"/>
              <p:nvPr/>
            </p:nvSpPr>
            <p:spPr>
              <a:xfrm>
                <a:off x="3429000" y="3286080"/>
                <a:ext cx="2330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Прямоугольник 57"/>
          <p:cNvSpPr/>
          <p:nvPr/>
        </p:nvSpPr>
        <p:spPr>
          <a:xfrm>
            <a:off x="5643720" y="3214800"/>
            <a:ext cx="4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8"/>
          <p:cNvSpPr/>
          <p:nvPr/>
        </p:nvSpPr>
        <p:spPr>
          <a:xfrm>
            <a:off x="1003680" y="4071960"/>
            <a:ext cx="5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1"/>
              <p:cNvSpPr txBox="1"/>
              <p:nvPr/>
            </p:nvSpPr>
            <p:spPr>
              <a:xfrm>
                <a:off x="1714680" y="4071960"/>
                <a:ext cx="642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Прямоугольник 61"/>
          <p:cNvSpPr/>
          <p:nvPr/>
        </p:nvSpPr>
        <p:spPr>
          <a:xfrm>
            <a:off x="2432880" y="40719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53"/>
              <p:cNvSpPr txBox="1"/>
              <p:nvPr/>
            </p:nvSpPr>
            <p:spPr>
              <a:xfrm>
                <a:off x="2928960" y="4000680"/>
                <a:ext cx="71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5"/>
              <p:cNvSpPr txBox="1"/>
              <p:nvPr/>
            </p:nvSpPr>
            <p:spPr>
              <a:xfrm>
                <a:off x="3643200" y="4214880"/>
                <a:ext cx="12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угольник 66"/>
          <p:cNvSpPr/>
          <p:nvPr/>
        </p:nvSpPr>
        <p:spPr>
          <a:xfrm>
            <a:off x="4556160" y="421488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й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157040" y="571680"/>
            <a:ext cx="38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˄ ˄ ˄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857160" y="2428920"/>
            <a:ext cx="764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график линейной функции - прямая линия"/>
          <p:cNvPicPr/>
          <p:nvPr/>
        </p:nvPicPr>
        <p:blipFill>
          <a:blip r:embed="rId2"/>
          <a:stretch/>
        </p:blipFill>
        <p:spPr>
          <a:xfrm>
            <a:off x="785880" y="214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рафик квадратичной функции - парабола"/>
          <p:cNvPicPr/>
          <p:nvPr/>
        </p:nvPicPr>
        <p:blipFill>
          <a:blip r:embed="rId3"/>
          <a:stretch/>
        </p:blipFill>
        <p:spPr>
          <a:xfrm>
            <a:off x="3357720" y="214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график показательной функции - экспонента"/>
          <p:cNvPicPr/>
          <p:nvPr/>
        </p:nvPicPr>
        <p:blipFill>
          <a:blip r:embed="rId4"/>
          <a:stretch/>
        </p:blipFill>
        <p:spPr>
          <a:xfrm>
            <a:off x="5715000" y="21420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график логарифмической функции - логарифмика"/>
          <p:cNvPicPr/>
          <p:nvPr/>
        </p:nvPicPr>
        <p:blipFill>
          <a:blip r:embed="rId5"/>
          <a:stretch/>
        </p:blipFill>
        <p:spPr>
          <a:xfrm>
            <a:off x="785880" y="2643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график обратной пропорциональности - гипербола"/>
          <p:cNvPicPr/>
          <p:nvPr/>
        </p:nvPicPr>
        <p:blipFill>
          <a:blip r:embed="rId6"/>
          <a:stretch/>
        </p:blipFill>
        <p:spPr>
          <a:xfrm>
            <a:off x="3429000" y="2643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график показательной функции - экспонента"/>
          <p:cNvPicPr/>
          <p:nvPr/>
        </p:nvPicPr>
        <p:blipFill>
          <a:blip r:embed="rId7"/>
          <a:stretch/>
        </p:blipFill>
        <p:spPr>
          <a:xfrm>
            <a:off x="585792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график кубическая парабола"/>
          <p:cNvPicPr/>
          <p:nvPr/>
        </p:nvPicPr>
        <p:blipFill>
          <a:blip r:embed="rId8"/>
          <a:stretch/>
        </p:blipFill>
        <p:spPr>
          <a:xfrm>
            <a:off x="4357800" y="471492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1646640" y="221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146120" y="2143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575760" y="214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1717920" y="4786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3646080" y="464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7072200" y="47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6504120" y="63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из перечисленных функций являются возрастающими, а какие убывающ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3571920" y="1714680"/>
                <a:ext cx="2386080" cy="10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3643200" y="2928960"/>
                <a:ext cx="3105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3714840" y="4143240"/>
                <a:ext cx="268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95280" y="692280"/>
            <a:ext cx="8497800" cy="151272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ahoma"/>
              </a:rPr>
              <a:t>Простейшие показательные 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0509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5643720" y="22860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640" y="2852640"/>
            <a:ext cx="3382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928960" y="4000680"/>
            <a:ext cx="5256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Решение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372240" y="2142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Определения</a:t>
            </a: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981000"/>
            <a:ext cx="8362800" cy="359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ьные неравенства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</a:t>
            </a:r>
            <a:br>
              <a:rPr sz="3600"/>
            </a:b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это неравенства, в которых неизвестное содержится в показателе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0200" y="52149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4357800" y="5143680"/>
                <a:ext cx="136980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6"/>
          <p:cNvGraphicFramePr/>
          <p:nvPr/>
        </p:nvGraphicFramePr>
        <p:xfrm>
          <a:off x="6286680" y="4857840"/>
          <a:ext cx="241776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4857840"/>
                    <a:ext cx="24177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8"/>
          <p:cNvSpPr/>
          <p:nvPr/>
        </p:nvSpPr>
        <p:spPr>
          <a:xfrm>
            <a:off x="4364280" y="32868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8542"/>
                </a:solidFill>
                <a:latin typeface="Verdana"/>
              </a:rPr>
              <a:t>Простейшие показательные неравенства – это неравенства ви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00080" y="150012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1000080" y="228600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Line 12"/>
          <p:cNvSpPr/>
          <p:nvPr/>
        </p:nvSpPr>
        <p:spPr>
          <a:xfrm>
            <a:off x="3857760" y="1785960"/>
            <a:ext cx="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4643280" y="164304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714920" y="2428920"/>
                <a:ext cx="21906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13"/>
          <p:cNvSpPr/>
          <p:nvPr/>
        </p:nvSpPr>
        <p:spPr>
          <a:xfrm>
            <a:off x="928800" y="53380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де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1102680" y="3143160"/>
            <a:ext cx="16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2"/>
          <p:cNvSpPr/>
          <p:nvPr/>
        </p:nvSpPr>
        <p:spPr>
          <a:xfrm>
            <a:off x="1785960" y="42148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3"/>
          <p:cNvSpPr/>
          <p:nvPr/>
        </p:nvSpPr>
        <p:spPr>
          <a:xfrm>
            <a:off x="1275480" y="4000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4786200" y="3286080"/>
            <a:ext cx="26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4960440" y="4071960"/>
            <a:ext cx="18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rcRect l="11002" t="22000" r="32004" b="9998"/>
          <a:stretch/>
        </p:blipFill>
        <p:spPr>
          <a:xfrm>
            <a:off x="1071720" y="1285920"/>
            <a:ext cx="3541680" cy="316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3"/>
          <a:srcRect l="45000" t="26000" r="0" b="8669"/>
          <a:stretch/>
        </p:blipFill>
        <p:spPr>
          <a:xfrm>
            <a:off x="5000760" y="1143000"/>
            <a:ext cx="3500280" cy="31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Object 25"/>
              <p:cNvSpPr txBox="1"/>
              <p:nvPr/>
            </p:nvSpPr>
            <p:spPr>
              <a:xfrm>
                <a:off x="2428920" y="4429080"/>
                <a:ext cx="1993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6"/>
              <p:cNvSpPr txBox="1"/>
              <p:nvPr/>
            </p:nvSpPr>
            <p:spPr>
              <a:xfrm>
                <a:off x="2571840" y="528624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3286080" y="357120"/>
                <a:ext cx="2038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6215040" y="428616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6500880" y="514368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2"/>
          <p:cNvSpPr/>
          <p:nvPr/>
        </p:nvSpPr>
        <p:spPr>
          <a:xfrm>
            <a:off x="500040" y="35712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 решении </a:t>
            </a:r>
            <a:r>
              <a:rPr b="1" i="1" lang="ru-RU" sz="3200" spc="-1" strike="noStrike">
                <a:solidFill>
                  <a:srgbClr val="1b587c"/>
                </a:solidFill>
                <a:latin typeface="Arial"/>
              </a:rPr>
              <a:t>простейших</a:t>
            </a:r>
            <a:r>
              <a:rPr b="0" i="1" lang="ru-RU" sz="32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венств используют свойства возрастания или убывания показатель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2571840" y="2214720"/>
                <a:ext cx="49608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2714760" y="4714920"/>
                <a:ext cx="52117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571680" y="428760"/>
            <a:ext cx="81435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шения простейших показательных неравенств и неравенств, приводимых к простей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.Уравнивание оснований правой и левой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2. Вынесением общего множителя за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3. Делением обеих частей неравенства на одну из степ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27:35Z</dcterms:created>
  <dc:creator>admin</dc:creator>
  <dc:description/>
  <dc:language>en-US</dc:language>
  <cp:lastModifiedBy>Любовь</cp:lastModifiedBy>
  <dcterms:modified xsi:type="dcterms:W3CDTF">2021-11-27T19:19:50Z</dcterms:modified>
  <cp:revision>108</cp:revision>
  <dc:subject/>
  <dc:title>Показательные уравнения</dc:title>
</cp:coreProperties>
</file>